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jpeg" ContentType="image/jpeg"/>
  <Override PartName="/ppt/media/image16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738B-13F6-4B88-9B09-E616D8DB5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512F-6BA2-4CC7-8CB2-019CD4126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31/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ME 6405: Introduction to Mechatronics</a:t>
            </a:r>
            <a:fld id="{3A4087C9-158D-48C4-99FE-04897298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7B9-C71A-416F-994B-51C8CE37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E5A-B71F-4533-B138-D00FE286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E26-0B47-4BF5-A726-F2CBF924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7CE-BBE2-48E3-BDA8-1387DA58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E5F-DBF3-49B1-AB56-596632C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B4C-F929-4597-9038-FEA61BB4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C56-7CA0-4C67-96B5-29C2DC4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A9F-7E53-4FBB-A409-A0A9336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7A3-577E-46E8-8CEE-63230A2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D0B-BD73-412A-A77C-730D5011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151-C818-4CBE-AFB9-436F698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3B7-44DD-4028-9406-FBC5845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C02-1D6E-463B-AF97-C73FC1B7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tro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84000" y="838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iew of Semi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48920" y="1219320"/>
            <a:ext cx="840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semiconductors of greatest importance are Silicon (S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ermanium (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lements have four valence electr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fined as the lowest unfilled energy 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Electron Energy Illustration"/>
          <p:cNvPicPr/>
          <p:nvPr/>
        </p:nvPicPr>
        <p:blipFill>
          <a:blip r:embed="rId1"/>
          <a:stretch/>
        </p:blipFill>
        <p:spPr>
          <a:xfrm>
            <a:off x="6248520" y="3429000"/>
            <a:ext cx="2719440" cy="2651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451080" y="3581280"/>
            <a:ext cx="588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ergy region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s are filled or partially fill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s in the valence band can be mov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condu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with the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nergy, usually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2920" y="685800"/>
            <a:ext cx="855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can be classified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sulator – has valence and conduction bands we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emiconductor – has valence band close to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 (the energy gap is about 1eV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onductor – has the conduction and valence b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emiconductors (Si, Ge) are poor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conductors are valuable for two unusual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onductivity increases exponentially with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: Thermis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nductivity can be increased and precisely controll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small impurities in a proces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p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6800" y="380880"/>
            <a:ext cx="89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doping – adds impurities from column V of the periodic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Negative free charge carriers (electron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doping – adds impurities from column III of the periodic ta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emiconductor material.  Positive free charge carriers (hole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 availab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created when a p-type semiconductor is joined with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ype semiconductor by the addition of thermal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both materials are joined, the thermal energy causes posi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ype reg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carrier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 to diffuse in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reates the depletion region within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438280" y="1981080"/>
            <a:ext cx="4216320" cy="2882880"/>
            <a:chOff x="2438280" y="1981080"/>
            <a:chExt cx="4216320" cy="2882880"/>
          </a:xfrm>
        </p:grpSpPr>
        <p:sp>
          <p:nvSpPr>
            <p:cNvPr id="87" name="Rectangle 3"/>
            <p:cNvSpPr/>
            <p:nvPr/>
          </p:nvSpPr>
          <p:spPr>
            <a:xfrm>
              <a:off x="3124080" y="2514600"/>
              <a:ext cx="2819160" cy="145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"/>
            <p:cNvSpPr/>
            <p:nvPr/>
          </p:nvSpPr>
          <p:spPr>
            <a:xfrm>
              <a:off x="518148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3504960" y="2971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43430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48002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8"/>
            <p:cNvSpPr/>
            <p:nvPr/>
          </p:nvSpPr>
          <p:spPr>
            <a:xfrm>
              <a:off x="4571640" y="2514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9"/>
            <p:cNvGrpSpPr/>
            <p:nvPr/>
          </p:nvGrpSpPr>
          <p:grpSpPr>
            <a:xfrm>
              <a:off x="4381200" y="2832120"/>
              <a:ext cx="152640" cy="152280"/>
              <a:chOff x="4381200" y="2832120"/>
              <a:chExt cx="152640" cy="152280"/>
            </a:xfrm>
          </p:grpSpPr>
          <p:sp>
            <p:nvSpPr>
              <p:cNvPr id="94" name="Oval 10"/>
              <p:cNvSpPr/>
              <p:nvPr/>
            </p:nvSpPr>
            <p:spPr>
              <a:xfrm>
                <a:off x="4381200" y="2832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11"/>
              <p:cNvSpPr/>
              <p:nvPr/>
            </p:nvSpPr>
            <p:spPr>
              <a:xfrm>
                <a:off x="4381200" y="2908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2"/>
            <p:cNvGrpSpPr/>
            <p:nvPr/>
          </p:nvGrpSpPr>
          <p:grpSpPr>
            <a:xfrm>
              <a:off x="4609800" y="2603520"/>
              <a:ext cx="152280" cy="152280"/>
              <a:chOff x="4609800" y="2603520"/>
              <a:chExt cx="152280" cy="1522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4609800" y="2603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4609800" y="2679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4686120" y="26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4381200" y="3060720"/>
              <a:ext cx="152640" cy="152280"/>
              <a:chOff x="4381200" y="3060720"/>
              <a:chExt cx="152640" cy="152280"/>
            </a:xfrm>
          </p:grpSpPr>
          <p:sp>
            <p:nvSpPr>
              <p:cNvPr id="101" name="Oval 17"/>
              <p:cNvSpPr/>
              <p:nvPr/>
            </p:nvSpPr>
            <p:spPr>
              <a:xfrm>
                <a:off x="4381200" y="306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4381200" y="31366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19"/>
            <p:cNvGrpSpPr/>
            <p:nvPr/>
          </p:nvGrpSpPr>
          <p:grpSpPr>
            <a:xfrm>
              <a:off x="4381200" y="3289320"/>
              <a:ext cx="152640" cy="152280"/>
              <a:chOff x="4381200" y="3289320"/>
              <a:chExt cx="152640" cy="152280"/>
            </a:xfrm>
          </p:grpSpPr>
          <p:sp>
            <p:nvSpPr>
              <p:cNvPr id="104" name="Oval 20"/>
              <p:cNvSpPr/>
              <p:nvPr/>
            </p:nvSpPr>
            <p:spPr>
              <a:xfrm>
                <a:off x="4381200" y="32893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4381200" y="336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2"/>
            <p:cNvGrpSpPr/>
            <p:nvPr/>
          </p:nvGrpSpPr>
          <p:grpSpPr>
            <a:xfrm>
              <a:off x="4381200" y="3517920"/>
              <a:ext cx="152640" cy="152280"/>
              <a:chOff x="4381200" y="3517920"/>
              <a:chExt cx="152640" cy="152280"/>
            </a:xfrm>
          </p:grpSpPr>
          <p:sp>
            <p:nvSpPr>
              <p:cNvPr id="107" name="Oval 23"/>
              <p:cNvSpPr/>
              <p:nvPr/>
            </p:nvSpPr>
            <p:spPr>
              <a:xfrm>
                <a:off x="4381200" y="3517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4"/>
              <p:cNvSpPr/>
              <p:nvPr/>
            </p:nvSpPr>
            <p:spPr>
              <a:xfrm>
                <a:off x="4381200" y="3593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25"/>
            <p:cNvGrpSpPr/>
            <p:nvPr/>
          </p:nvGrpSpPr>
          <p:grpSpPr>
            <a:xfrm>
              <a:off x="4381200" y="3746520"/>
              <a:ext cx="152640" cy="152280"/>
              <a:chOff x="4381200" y="3746520"/>
              <a:chExt cx="152640" cy="152280"/>
            </a:xfrm>
          </p:grpSpPr>
          <p:sp>
            <p:nvSpPr>
              <p:cNvPr id="110" name="Oval 26"/>
              <p:cNvSpPr/>
              <p:nvPr/>
            </p:nvSpPr>
            <p:spPr>
              <a:xfrm>
                <a:off x="4381200" y="3746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4381200" y="3822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8"/>
            <p:cNvGrpSpPr/>
            <p:nvPr/>
          </p:nvGrpSpPr>
          <p:grpSpPr>
            <a:xfrm>
              <a:off x="4381200" y="2603520"/>
              <a:ext cx="152640" cy="152280"/>
              <a:chOff x="4381200" y="2603520"/>
              <a:chExt cx="152640" cy="152280"/>
            </a:xfrm>
          </p:grpSpPr>
          <p:sp>
            <p:nvSpPr>
              <p:cNvPr id="113" name="Oval 29"/>
              <p:cNvSpPr/>
              <p:nvPr/>
            </p:nvSpPr>
            <p:spPr>
              <a:xfrm>
                <a:off x="4381200" y="2603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>
                <a:off x="4381200" y="2679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1"/>
            <p:cNvGrpSpPr/>
            <p:nvPr/>
          </p:nvGrpSpPr>
          <p:grpSpPr>
            <a:xfrm>
              <a:off x="4609800" y="2832120"/>
              <a:ext cx="152280" cy="152280"/>
              <a:chOff x="4609800" y="2832120"/>
              <a:chExt cx="152280" cy="152280"/>
            </a:xfrm>
          </p:grpSpPr>
          <p:sp>
            <p:nvSpPr>
              <p:cNvPr id="116" name="Oval 32"/>
              <p:cNvSpPr/>
              <p:nvPr/>
            </p:nvSpPr>
            <p:spPr>
              <a:xfrm>
                <a:off x="4609800" y="28321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3"/>
              <p:cNvSpPr/>
              <p:nvPr/>
            </p:nvSpPr>
            <p:spPr>
              <a:xfrm>
                <a:off x="4609800" y="29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4"/>
              <p:cNvSpPr/>
              <p:nvPr/>
            </p:nvSpPr>
            <p:spPr>
              <a:xfrm>
                <a:off x="4686120" y="2832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35"/>
            <p:cNvGrpSpPr/>
            <p:nvPr/>
          </p:nvGrpSpPr>
          <p:grpSpPr>
            <a:xfrm>
              <a:off x="4609800" y="3060720"/>
              <a:ext cx="152280" cy="152280"/>
              <a:chOff x="4609800" y="3060720"/>
              <a:chExt cx="152280" cy="152280"/>
            </a:xfrm>
          </p:grpSpPr>
          <p:sp>
            <p:nvSpPr>
              <p:cNvPr id="120" name="Oval 36"/>
              <p:cNvSpPr/>
              <p:nvPr/>
            </p:nvSpPr>
            <p:spPr>
              <a:xfrm>
                <a:off x="4609800" y="3060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7"/>
              <p:cNvSpPr/>
              <p:nvPr/>
            </p:nvSpPr>
            <p:spPr>
              <a:xfrm>
                <a:off x="4609800" y="313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8"/>
              <p:cNvSpPr/>
              <p:nvPr/>
            </p:nvSpPr>
            <p:spPr>
              <a:xfrm>
                <a:off x="4686120" y="3060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39"/>
            <p:cNvGrpSpPr/>
            <p:nvPr/>
          </p:nvGrpSpPr>
          <p:grpSpPr>
            <a:xfrm>
              <a:off x="4609800" y="3289320"/>
              <a:ext cx="152280" cy="152280"/>
              <a:chOff x="4609800" y="3289320"/>
              <a:chExt cx="152280" cy="15228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4609800" y="3289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1"/>
              <p:cNvSpPr/>
              <p:nvPr/>
            </p:nvSpPr>
            <p:spPr>
              <a:xfrm>
                <a:off x="4609800" y="3365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2"/>
              <p:cNvSpPr/>
              <p:nvPr/>
            </p:nvSpPr>
            <p:spPr>
              <a:xfrm>
                <a:off x="4686120" y="32893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43"/>
            <p:cNvGrpSpPr/>
            <p:nvPr/>
          </p:nvGrpSpPr>
          <p:grpSpPr>
            <a:xfrm>
              <a:off x="4609800" y="3517920"/>
              <a:ext cx="152280" cy="152280"/>
              <a:chOff x="4609800" y="3517920"/>
              <a:chExt cx="152280" cy="152280"/>
            </a:xfrm>
          </p:grpSpPr>
          <p:sp>
            <p:nvSpPr>
              <p:cNvPr id="128" name="Oval 44"/>
              <p:cNvSpPr/>
              <p:nvPr/>
            </p:nvSpPr>
            <p:spPr>
              <a:xfrm>
                <a:off x="4609800" y="3517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5"/>
              <p:cNvSpPr/>
              <p:nvPr/>
            </p:nvSpPr>
            <p:spPr>
              <a:xfrm>
                <a:off x="4609800" y="359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6"/>
              <p:cNvSpPr/>
              <p:nvPr/>
            </p:nvSpPr>
            <p:spPr>
              <a:xfrm>
                <a:off x="4686120" y="35179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7"/>
            <p:cNvGrpSpPr/>
            <p:nvPr/>
          </p:nvGrpSpPr>
          <p:grpSpPr>
            <a:xfrm>
              <a:off x="4609800" y="3746520"/>
              <a:ext cx="152280" cy="152280"/>
              <a:chOff x="4609800" y="3746520"/>
              <a:chExt cx="152280" cy="152280"/>
            </a:xfrm>
          </p:grpSpPr>
          <p:sp>
            <p:nvSpPr>
              <p:cNvPr id="132" name="Oval 48"/>
              <p:cNvSpPr/>
              <p:nvPr/>
            </p:nvSpPr>
            <p:spPr>
              <a:xfrm>
                <a:off x="4609800" y="3746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9"/>
              <p:cNvSpPr/>
              <p:nvPr/>
            </p:nvSpPr>
            <p:spPr>
              <a:xfrm>
                <a:off x="4609800" y="3822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50"/>
              <p:cNvSpPr/>
              <p:nvPr/>
            </p:nvSpPr>
            <p:spPr>
              <a:xfrm>
                <a:off x="4686120" y="3746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51"/>
            <p:cNvSpPr/>
            <p:nvPr/>
          </p:nvSpPr>
          <p:spPr>
            <a:xfrm>
              <a:off x="29714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43240" y="2895480"/>
              <a:ext cx="15264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3"/>
            <p:cNvSpPr/>
            <p:nvPr/>
          </p:nvSpPr>
          <p:spPr>
            <a:xfrm>
              <a:off x="4190760" y="4343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54"/>
            <p:cNvSpPr/>
            <p:nvPr/>
          </p:nvSpPr>
          <p:spPr>
            <a:xfrm>
              <a:off x="43430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55"/>
            <p:cNvSpPr/>
            <p:nvPr/>
          </p:nvSpPr>
          <p:spPr>
            <a:xfrm>
              <a:off x="48002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56"/>
            <p:cNvSpPr/>
            <p:nvPr/>
          </p:nvSpPr>
          <p:spPr>
            <a:xfrm flipV="1">
              <a:off x="42670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7"/>
            <p:cNvSpPr/>
            <p:nvPr/>
          </p:nvSpPr>
          <p:spPr>
            <a:xfrm flipV="1">
              <a:off x="4724280" y="4267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8"/>
            <p:cNvSpPr/>
            <p:nvPr/>
          </p:nvSpPr>
          <p:spPr>
            <a:xfrm>
              <a:off x="3733200" y="44956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Depletion 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59"/>
            <p:cNvGrpSpPr/>
            <p:nvPr/>
          </p:nvGrpSpPr>
          <p:grpSpPr>
            <a:xfrm>
              <a:off x="3200040" y="2666880"/>
              <a:ext cx="152640" cy="152640"/>
              <a:chOff x="3200040" y="2666880"/>
              <a:chExt cx="152640" cy="152640"/>
            </a:xfrm>
          </p:grpSpPr>
          <p:sp>
            <p:nvSpPr>
              <p:cNvPr id="144" name="Line 60"/>
              <p:cNvSpPr/>
              <p:nvPr/>
            </p:nvSpPr>
            <p:spPr>
              <a:xfrm>
                <a:off x="3200040" y="27432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1"/>
              <p:cNvSpPr/>
              <p:nvPr/>
            </p:nvSpPr>
            <p:spPr>
              <a:xfrm>
                <a:off x="3276360" y="2666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62"/>
            <p:cNvSpPr/>
            <p:nvPr/>
          </p:nvSpPr>
          <p:spPr>
            <a:xfrm>
              <a:off x="5714640" y="27432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3"/>
            <p:cNvSpPr/>
            <p:nvPr/>
          </p:nvSpPr>
          <p:spPr>
            <a:xfrm>
              <a:off x="32763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64"/>
            <p:cNvSpPr/>
            <p:nvPr/>
          </p:nvSpPr>
          <p:spPr>
            <a:xfrm>
              <a:off x="579096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5"/>
            <p:cNvSpPr/>
            <p:nvPr/>
          </p:nvSpPr>
          <p:spPr>
            <a:xfrm>
              <a:off x="243828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6"/>
            <p:cNvSpPr/>
            <p:nvPr/>
          </p:nvSpPr>
          <p:spPr>
            <a:xfrm>
              <a:off x="4876560" y="1981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Mayority carr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137880" y="457200"/>
            <a:ext cx="88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letion region contains an internal electric field caused b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charge.  This is called the potential barrier and it act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e the diffusion of majority carriers across the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8"/>
          <p:cNvSpPr/>
          <p:nvPr/>
        </p:nvSpPr>
        <p:spPr>
          <a:xfrm>
            <a:off x="-7920" y="5486400"/>
            <a:ext cx="84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open circuit conditions no current flows through the d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9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46760" y="990720"/>
            <a:ext cx="83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r of a diode depends on the the polarity of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2080" y="1371600"/>
            <a:ext cx="851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ward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the junction and the depletion region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oltage is high enough the depletion region can be entir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sustained by the majority carr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267080" y="3733920"/>
            <a:ext cx="3797640" cy="2733480"/>
            <a:chOff x="4267080" y="3733920"/>
            <a:chExt cx="3797640" cy="2733480"/>
          </a:xfrm>
        </p:grpSpPr>
        <p:sp>
          <p:nvSpPr>
            <p:cNvPr id="159" name="Rectangle 7"/>
            <p:cNvSpPr/>
            <p:nvPr/>
          </p:nvSpPr>
          <p:spPr>
            <a:xfrm>
              <a:off x="5112720" y="60991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Forward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8"/>
            <p:cNvGrpSpPr/>
            <p:nvPr/>
          </p:nvGrpSpPr>
          <p:grpSpPr>
            <a:xfrm>
              <a:off x="4267080" y="3733920"/>
              <a:ext cx="3797640" cy="2298600"/>
              <a:chOff x="4267080" y="3733920"/>
              <a:chExt cx="3797640" cy="2298600"/>
            </a:xfrm>
          </p:grpSpPr>
          <p:grpSp>
            <p:nvGrpSpPr>
              <p:cNvPr id="161" name="Group 9"/>
              <p:cNvGrpSpPr/>
              <p:nvPr/>
            </p:nvGrpSpPr>
            <p:grpSpPr>
              <a:xfrm>
                <a:off x="4976640" y="4275000"/>
                <a:ext cx="1825920" cy="849600"/>
                <a:chOff x="4976640" y="4275000"/>
                <a:chExt cx="1825920" cy="849600"/>
              </a:xfrm>
            </p:grpSpPr>
            <p:sp>
              <p:nvSpPr>
                <p:cNvPr id="162" name="Rectangle 10"/>
                <p:cNvSpPr/>
                <p:nvPr/>
              </p:nvSpPr>
              <p:spPr>
                <a:xfrm>
                  <a:off x="5065560" y="4275000"/>
                  <a:ext cx="1647720" cy="849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1"/>
                <p:cNvSpPr/>
                <p:nvPr/>
              </p:nvSpPr>
              <p:spPr>
                <a:xfrm>
                  <a:off x="6267240" y="4541760"/>
                  <a:ext cx="266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Text Box 12"/>
                <p:cNvSpPr/>
                <p:nvPr/>
              </p:nvSpPr>
              <p:spPr>
                <a:xfrm>
                  <a:off x="5288040" y="4541760"/>
                  <a:ext cx="22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3"/>
                <p:cNvSpPr/>
                <p:nvPr/>
              </p:nvSpPr>
              <p:spPr>
                <a:xfrm>
                  <a:off x="4976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14"/>
                <p:cNvSpPr/>
                <p:nvPr/>
              </p:nvSpPr>
              <p:spPr>
                <a:xfrm>
                  <a:off x="6713640" y="4497480"/>
                  <a:ext cx="88920" cy="399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5"/>
                <p:cNvSpPr/>
                <p:nvPr/>
              </p:nvSpPr>
              <p:spPr>
                <a:xfrm>
                  <a:off x="5911920" y="4275000"/>
                  <a:ext cx="0" cy="84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Line 16"/>
              <p:cNvSpPr/>
              <p:nvPr/>
            </p:nvSpPr>
            <p:spPr>
              <a:xfrm flipH="1">
                <a:off x="4368960" y="4680000"/>
                <a:ext cx="60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7"/>
              <p:cNvSpPr/>
              <p:nvPr/>
            </p:nvSpPr>
            <p:spPr>
              <a:xfrm flipH="1">
                <a:off x="6802200" y="4680000"/>
                <a:ext cx="6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8"/>
              <p:cNvSpPr/>
              <p:nvPr/>
            </p:nvSpPr>
            <p:spPr>
              <a:xfrm>
                <a:off x="436896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9"/>
              <p:cNvSpPr/>
              <p:nvPr/>
            </p:nvSpPr>
            <p:spPr>
              <a:xfrm>
                <a:off x="7410600" y="468000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20"/>
              <p:cNvSpPr/>
              <p:nvPr/>
            </p:nvSpPr>
            <p:spPr>
              <a:xfrm>
                <a:off x="4368960" y="5829480"/>
                <a:ext cx="14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Group 21"/>
              <p:cNvGrpSpPr/>
              <p:nvPr/>
            </p:nvGrpSpPr>
            <p:grpSpPr>
              <a:xfrm>
                <a:off x="5788080" y="5626080"/>
                <a:ext cx="203040" cy="406440"/>
                <a:chOff x="5788080" y="5626080"/>
                <a:chExt cx="203040" cy="40644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5991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23"/>
                <p:cNvSpPr/>
                <p:nvPr/>
              </p:nvSpPr>
              <p:spPr>
                <a:xfrm>
                  <a:off x="5856120" y="5693760"/>
                  <a:ext cx="0" cy="27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4"/>
                <p:cNvSpPr/>
                <p:nvPr/>
              </p:nvSpPr>
              <p:spPr>
                <a:xfrm>
                  <a:off x="592344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5"/>
                <p:cNvSpPr/>
                <p:nvPr/>
              </p:nvSpPr>
              <p:spPr>
                <a:xfrm>
                  <a:off x="5788080" y="5626080"/>
                  <a:ext cx="0" cy="40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Line 26"/>
              <p:cNvSpPr/>
              <p:nvPr/>
            </p:nvSpPr>
            <p:spPr>
              <a:xfrm>
                <a:off x="5991120" y="5829480"/>
                <a:ext cx="141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27"/>
              <p:cNvSpPr/>
              <p:nvPr/>
            </p:nvSpPr>
            <p:spPr>
              <a:xfrm>
                <a:off x="5584680" y="5559480"/>
                <a:ext cx="13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28"/>
              <p:cNvSpPr/>
              <p:nvPr/>
            </p:nvSpPr>
            <p:spPr>
              <a:xfrm>
                <a:off x="5653080" y="5491080"/>
                <a:ext cx="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29"/>
              <p:cNvSpPr/>
              <p:nvPr/>
            </p:nvSpPr>
            <p:spPr>
              <a:xfrm>
                <a:off x="4267080" y="5097600"/>
                <a:ext cx="203400" cy="404640"/>
              </a:xfrm>
              <a:prstGeom prst="upArrow">
                <a:avLst>
                  <a:gd name="adj1" fmla="val 50000"/>
                  <a:gd name="adj2" fmla="val 4973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4368960" y="4748040"/>
                <a:ext cx="487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P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P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31"/>
              <p:cNvGrpSpPr/>
              <p:nvPr/>
            </p:nvGrpSpPr>
            <p:grpSpPr>
              <a:xfrm>
                <a:off x="5383080" y="4341960"/>
                <a:ext cx="135000" cy="134640"/>
                <a:chOff x="5383080" y="4341960"/>
                <a:chExt cx="135000" cy="13464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5383080" y="4409280"/>
                  <a:ext cx="1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5450400" y="4341960"/>
                  <a:ext cx="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Line 34"/>
              <p:cNvSpPr/>
              <p:nvPr/>
            </p:nvSpPr>
            <p:spPr>
              <a:xfrm>
                <a:off x="6261120" y="4410000"/>
                <a:ext cx="13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5"/>
              <p:cNvSpPr/>
              <p:nvPr/>
            </p:nvSpPr>
            <p:spPr>
              <a:xfrm>
                <a:off x="558468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6"/>
              <p:cNvSpPr/>
              <p:nvPr/>
            </p:nvSpPr>
            <p:spPr>
              <a:xfrm flipH="1">
                <a:off x="5990760" y="4410000"/>
                <a:ext cx="20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37"/>
              <p:cNvSpPr/>
              <p:nvPr/>
            </p:nvSpPr>
            <p:spPr>
              <a:xfrm>
                <a:off x="5856120" y="427500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38"/>
              <p:cNvSpPr/>
              <p:nvPr/>
            </p:nvSpPr>
            <p:spPr>
              <a:xfrm>
                <a:off x="5969160" y="4286160"/>
                <a:ext cx="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Group 39"/>
              <p:cNvGrpSpPr/>
              <p:nvPr/>
            </p:nvGrpSpPr>
            <p:grpSpPr>
              <a:xfrm>
                <a:off x="5721480" y="4003560"/>
                <a:ext cx="550440" cy="244440"/>
                <a:chOff x="5721480" y="4003560"/>
                <a:chExt cx="550440" cy="244440"/>
              </a:xfrm>
            </p:grpSpPr>
            <p:grpSp>
              <p:nvGrpSpPr>
                <p:cNvPr id="192" name="Group 40"/>
                <p:cNvGrpSpPr/>
                <p:nvPr/>
              </p:nvGrpSpPr>
              <p:grpSpPr>
                <a:xfrm>
                  <a:off x="5721480" y="4003560"/>
                  <a:ext cx="404280" cy="244440"/>
                  <a:chOff x="5721480" y="4003560"/>
                  <a:chExt cx="404280" cy="244440"/>
                </a:xfrm>
              </p:grpSpPr>
              <p:sp>
                <p:nvSpPr>
                  <p:cNvPr id="193" name="Line 41"/>
                  <p:cNvSpPr/>
                  <p:nvPr/>
                </p:nvSpPr>
                <p:spPr>
                  <a:xfrm>
                    <a:off x="5721480" y="4125600"/>
                    <a:ext cx="404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42"/>
                  <p:cNvSpPr/>
                  <p:nvPr/>
                </p:nvSpPr>
                <p:spPr>
                  <a:xfrm>
                    <a:off x="580212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43"/>
                  <p:cNvSpPr/>
                  <p:nvPr/>
                </p:nvSpPr>
                <p:spPr>
                  <a:xfrm>
                    <a:off x="6044760" y="4003560"/>
                    <a:ext cx="0" cy="24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44"/>
                  <p:cNvSpPr/>
                  <p:nvPr/>
                </p:nvSpPr>
                <p:spPr>
                  <a:xfrm flipV="1">
                    <a:off x="576180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45"/>
                  <p:cNvSpPr/>
                  <p:nvPr/>
                </p:nvSpPr>
                <p:spPr>
                  <a:xfrm flipV="1">
                    <a:off x="6004440" y="4084920"/>
                    <a:ext cx="81000" cy="81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Line 46"/>
                <p:cNvSpPr/>
                <p:nvPr/>
              </p:nvSpPr>
              <p:spPr>
                <a:xfrm>
                  <a:off x="6069960" y="4127760"/>
                  <a:ext cx="201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Rectangle 47"/>
              <p:cNvSpPr/>
              <p:nvPr/>
            </p:nvSpPr>
            <p:spPr>
              <a:xfrm>
                <a:off x="6260760" y="3733920"/>
                <a:ext cx="180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Depletion Reg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1800" spc="-1" strike="noStrike">
                    <a:solidFill>
                      <a:srgbClr val="000000"/>
                    </a:solidFill>
                    <a:latin typeface="Times New Roman"/>
                  </a:rPr>
                  <a:t>Original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533520" y="4800600"/>
            <a:ext cx="3264120" cy="977400"/>
            <a:chOff x="533520" y="4800600"/>
            <a:chExt cx="3264120" cy="977400"/>
          </a:xfrm>
        </p:grpSpPr>
        <p:grpSp>
          <p:nvGrpSpPr>
            <p:cNvPr id="201" name="Group 49"/>
            <p:cNvGrpSpPr/>
            <p:nvPr/>
          </p:nvGrpSpPr>
          <p:grpSpPr>
            <a:xfrm>
              <a:off x="533520" y="4800600"/>
              <a:ext cx="2832120" cy="939960"/>
              <a:chOff x="533520" y="4800600"/>
              <a:chExt cx="2832120" cy="93996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533520" y="4902480"/>
                <a:ext cx="2438640" cy="838080"/>
                <a:chOff x="533520" y="4902480"/>
                <a:chExt cx="2438640" cy="838080"/>
              </a:xfrm>
            </p:grpSpPr>
            <p:sp>
              <p:nvSpPr>
                <p:cNvPr id="203" name="Freeform 51"/>
                <p:cNvSpPr/>
                <p:nvPr/>
              </p:nvSpPr>
              <p:spPr>
                <a:xfrm>
                  <a:off x="533520" y="4902480"/>
                  <a:ext cx="2438640" cy="838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546480" y="5334120"/>
                  <a:ext cx="2286000" cy="380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53"/>
              <p:cNvGrpSpPr/>
              <p:nvPr/>
            </p:nvGrpSpPr>
            <p:grpSpPr>
              <a:xfrm>
                <a:off x="927360" y="4800600"/>
                <a:ext cx="2438280" cy="914400"/>
                <a:chOff x="927360" y="4800600"/>
                <a:chExt cx="2438280" cy="914400"/>
              </a:xfrm>
            </p:grpSpPr>
            <p:sp>
              <p:nvSpPr>
                <p:cNvPr id="206" name="Line 54"/>
                <p:cNvSpPr/>
                <p:nvPr/>
              </p:nvSpPr>
              <p:spPr>
                <a:xfrm>
                  <a:off x="1536840" y="48006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927360" y="571500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 flipV="1">
                  <a:off x="2927520" y="491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57"/>
                <p:cNvSpPr/>
                <p:nvPr/>
              </p:nvSpPr>
              <p:spPr>
                <a:xfrm>
                  <a:off x="2932200" y="5486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58"/>
                <p:cNvSpPr/>
                <p:nvPr/>
              </p:nvSpPr>
              <p:spPr>
                <a:xfrm>
                  <a:off x="2775960" y="5158080"/>
                  <a:ext cx="3409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59"/>
                <p:cNvSpPr/>
                <p:nvPr/>
              </p:nvSpPr>
              <p:spPr>
                <a:xfrm>
                  <a:off x="3070440" y="5353200"/>
                  <a:ext cx="29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60"/>
                <p:cNvSpPr/>
                <p:nvPr/>
              </p:nvSpPr>
              <p:spPr>
                <a:xfrm flipV="1">
                  <a:off x="313236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3132360" y="5481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Rectangle 62"/>
            <p:cNvSpPr/>
            <p:nvPr/>
          </p:nvSpPr>
          <p:spPr>
            <a:xfrm>
              <a:off x="3193560" y="537228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5868360" y="5334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4"/>
          <p:cNvSpPr/>
          <p:nvPr/>
        </p:nvSpPr>
        <p:spPr>
          <a:xfrm>
            <a:off x="837720" y="57150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3640" y="304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flow in the 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0000" y="914400"/>
            <a:ext cx="869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od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bi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ositive terminal of the batt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nnected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material.  The majority carriers are forc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junction and the depletion region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ity carriers are unable to create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m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kage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stained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verse bias is sufficiently increased, a sudden increase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current is observed.  This is known as the Zener or Avalanc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4495320" y="4232160"/>
            <a:ext cx="3138840" cy="2462400"/>
            <a:chOff x="4495320" y="4232160"/>
            <a:chExt cx="3138840" cy="2462400"/>
          </a:xfrm>
        </p:grpSpPr>
        <p:grpSp>
          <p:nvGrpSpPr>
            <p:cNvPr id="221" name="Group 6"/>
            <p:cNvGrpSpPr/>
            <p:nvPr/>
          </p:nvGrpSpPr>
          <p:grpSpPr>
            <a:xfrm>
              <a:off x="5103720" y="4502160"/>
              <a:ext cx="1822320" cy="849240"/>
              <a:chOff x="5103720" y="4502160"/>
              <a:chExt cx="1822320" cy="849240"/>
            </a:xfrm>
          </p:grpSpPr>
          <p:sp>
            <p:nvSpPr>
              <p:cNvPr id="222" name="Rectangle 7"/>
              <p:cNvSpPr/>
              <p:nvPr/>
            </p:nvSpPr>
            <p:spPr>
              <a:xfrm>
                <a:off x="5192280" y="4502160"/>
                <a:ext cx="1644840" cy="84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6392880" y="4767840"/>
                <a:ext cx="26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5415840" y="4767840"/>
                <a:ext cx="22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510372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1"/>
              <p:cNvSpPr/>
              <p:nvPr/>
            </p:nvSpPr>
            <p:spPr>
              <a:xfrm>
                <a:off x="6837480" y="4724280"/>
                <a:ext cx="885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6037200" y="450216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13"/>
            <p:cNvSpPr/>
            <p:nvPr/>
          </p:nvSpPr>
          <p:spPr>
            <a:xfrm flipH="1">
              <a:off x="4495320" y="4906800"/>
              <a:ext cx="60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6926400" y="4906800"/>
              <a:ext cx="60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>
              <a:off x="449568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7532640" y="4906800"/>
              <a:ext cx="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449568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8"/>
            <p:cNvGrpSpPr/>
            <p:nvPr/>
          </p:nvGrpSpPr>
          <p:grpSpPr>
            <a:xfrm>
              <a:off x="5913360" y="5853240"/>
              <a:ext cx="201600" cy="404640"/>
              <a:chOff x="5913360" y="5853240"/>
              <a:chExt cx="201600" cy="40464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591336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6047640" y="592056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1"/>
              <p:cNvSpPr/>
              <p:nvPr/>
            </p:nvSpPr>
            <p:spPr>
              <a:xfrm>
                <a:off x="598068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2"/>
              <p:cNvSpPr/>
              <p:nvPr/>
            </p:nvSpPr>
            <p:spPr>
              <a:xfrm>
                <a:off x="6114960" y="5853240"/>
                <a:ext cx="0" cy="40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3"/>
            <p:cNvSpPr/>
            <p:nvPr/>
          </p:nvSpPr>
          <p:spPr>
            <a:xfrm>
              <a:off x="6114960" y="605484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6183360" y="585324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6249960" y="578484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26"/>
            <p:cNvSpPr/>
            <p:nvPr/>
          </p:nvSpPr>
          <p:spPr>
            <a:xfrm>
              <a:off x="7431120" y="5324400"/>
              <a:ext cx="203040" cy="405000"/>
            </a:xfrm>
            <a:prstGeom prst="upArrow">
              <a:avLst>
                <a:gd name="adj1" fmla="val 50000"/>
                <a:gd name="adj2" fmla="val 498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304960" y="6326280"/>
              <a:ext cx="159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000000"/>
                  </a:solidFill>
                  <a:latin typeface="Times New Roman"/>
                </a:rPr>
                <a:t>Reverse Bi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28"/>
            <p:cNvGrpSpPr/>
            <p:nvPr/>
          </p:nvGrpSpPr>
          <p:grpSpPr>
            <a:xfrm>
              <a:off x="5508720" y="4570560"/>
              <a:ext cx="135000" cy="134640"/>
              <a:chOff x="5508720" y="4570560"/>
              <a:chExt cx="135000" cy="134640"/>
            </a:xfrm>
          </p:grpSpPr>
          <p:sp>
            <p:nvSpPr>
              <p:cNvPr id="244" name="Line 29"/>
              <p:cNvSpPr/>
              <p:nvPr/>
            </p:nvSpPr>
            <p:spPr>
              <a:xfrm>
                <a:off x="5508720" y="4637880"/>
                <a:ext cx="13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30"/>
              <p:cNvSpPr/>
              <p:nvPr/>
            </p:nvSpPr>
            <p:spPr>
              <a:xfrm>
                <a:off x="5576040" y="4570560"/>
                <a:ext cx="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Line 31"/>
            <p:cNvSpPr/>
            <p:nvPr/>
          </p:nvSpPr>
          <p:spPr>
            <a:xfrm>
              <a:off x="6384960" y="4637160"/>
              <a:ext cx="13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2"/>
            <p:cNvSpPr/>
            <p:nvPr/>
          </p:nvSpPr>
          <p:spPr>
            <a:xfrm>
              <a:off x="6588000" y="4637160"/>
              <a:ext cx="20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3"/>
            <p:cNvSpPr/>
            <p:nvPr/>
          </p:nvSpPr>
          <p:spPr>
            <a:xfrm flipH="1">
              <a:off x="5238720" y="46371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34"/>
            <p:cNvSpPr/>
            <p:nvPr/>
          </p:nvSpPr>
          <p:spPr>
            <a:xfrm>
              <a:off x="571032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35"/>
            <p:cNvSpPr/>
            <p:nvPr/>
          </p:nvSpPr>
          <p:spPr>
            <a:xfrm>
              <a:off x="6318360" y="4502160"/>
              <a:ext cx="0" cy="8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36"/>
            <p:cNvGrpSpPr/>
            <p:nvPr/>
          </p:nvGrpSpPr>
          <p:grpSpPr>
            <a:xfrm>
              <a:off x="5845320" y="4232160"/>
              <a:ext cx="608040" cy="243000"/>
              <a:chOff x="5845320" y="4232160"/>
              <a:chExt cx="608040" cy="243000"/>
            </a:xfrm>
          </p:grpSpPr>
          <p:grpSp>
            <p:nvGrpSpPr>
              <p:cNvPr id="252" name="Group 37"/>
              <p:cNvGrpSpPr/>
              <p:nvPr/>
            </p:nvGrpSpPr>
            <p:grpSpPr>
              <a:xfrm>
                <a:off x="5845320" y="4232160"/>
                <a:ext cx="405360" cy="243000"/>
                <a:chOff x="5845320" y="4232160"/>
                <a:chExt cx="405360" cy="243000"/>
              </a:xfrm>
            </p:grpSpPr>
            <p:sp>
              <p:nvSpPr>
                <p:cNvPr id="253" name="Line 38"/>
                <p:cNvSpPr/>
                <p:nvPr/>
              </p:nvSpPr>
              <p:spPr>
                <a:xfrm>
                  <a:off x="5845320" y="435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9"/>
                <p:cNvSpPr/>
                <p:nvPr/>
              </p:nvSpPr>
              <p:spPr>
                <a:xfrm>
                  <a:off x="592632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40"/>
                <p:cNvSpPr/>
                <p:nvPr/>
              </p:nvSpPr>
              <p:spPr>
                <a:xfrm>
                  <a:off x="6169680" y="423216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41"/>
                <p:cNvSpPr/>
                <p:nvPr/>
              </p:nvSpPr>
              <p:spPr>
                <a:xfrm flipV="1">
                  <a:off x="588564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42"/>
                <p:cNvSpPr/>
                <p:nvPr/>
              </p:nvSpPr>
              <p:spPr>
                <a:xfrm flipV="1">
                  <a:off x="6129000" y="4312800"/>
                  <a:ext cx="8100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Line 43"/>
              <p:cNvSpPr/>
              <p:nvPr/>
            </p:nvSpPr>
            <p:spPr>
              <a:xfrm>
                <a:off x="6250680" y="4355640"/>
                <a:ext cx="20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Rectangle 44"/>
          <p:cNvSpPr/>
          <p:nvPr/>
        </p:nvSpPr>
        <p:spPr>
          <a:xfrm>
            <a:off x="6453000" y="38862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Depletio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Times New Roman"/>
              </a:rPr>
              <a:t>Original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5"/>
          <p:cNvGrpSpPr/>
          <p:nvPr/>
        </p:nvGrpSpPr>
        <p:grpSpPr>
          <a:xfrm>
            <a:off x="5715000" y="4508640"/>
            <a:ext cx="609480" cy="877680"/>
            <a:chOff x="5715000" y="4508640"/>
            <a:chExt cx="609480" cy="877680"/>
          </a:xfrm>
        </p:grpSpPr>
        <p:sp>
          <p:nvSpPr>
            <p:cNvPr id="261" name="Rectangle 46"/>
            <p:cNvSpPr/>
            <p:nvPr/>
          </p:nvSpPr>
          <p:spPr>
            <a:xfrm>
              <a:off x="5715000" y="4508640"/>
              <a:ext cx="609480" cy="838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>
              <a:off x="6019560" y="45086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 Box 48"/>
          <p:cNvSpPr/>
          <p:nvPr/>
        </p:nvSpPr>
        <p:spPr>
          <a:xfrm>
            <a:off x="7238880" y="4876920"/>
            <a:ext cx="4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PR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9"/>
          <p:cNvGrpSpPr/>
          <p:nvPr/>
        </p:nvGrpSpPr>
        <p:grpSpPr>
          <a:xfrm>
            <a:off x="685800" y="4978440"/>
            <a:ext cx="2438280" cy="838080"/>
            <a:chOff x="685800" y="4978440"/>
            <a:chExt cx="2438280" cy="838080"/>
          </a:xfrm>
        </p:grpSpPr>
        <p:sp>
          <p:nvSpPr>
            <p:cNvPr id="265" name="Freeform 50"/>
            <p:cNvSpPr/>
            <p:nvPr/>
          </p:nvSpPr>
          <p:spPr>
            <a:xfrm>
              <a:off x="685800" y="4978440"/>
              <a:ext cx="2438280" cy="838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51"/>
            <p:cNvSpPr/>
            <p:nvPr/>
          </p:nvSpPr>
          <p:spPr>
            <a:xfrm>
              <a:off x="698400" y="5410080"/>
              <a:ext cx="228564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Line 52"/>
          <p:cNvSpPr/>
          <p:nvPr/>
        </p:nvSpPr>
        <p:spPr>
          <a:xfrm>
            <a:off x="168912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3"/>
          <p:cNvSpPr/>
          <p:nvPr/>
        </p:nvSpPr>
        <p:spPr>
          <a:xfrm>
            <a:off x="1079640" y="5791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4"/>
          <p:cNvSpPr/>
          <p:nvPr/>
        </p:nvSpPr>
        <p:spPr>
          <a:xfrm>
            <a:off x="2975760" y="5486400"/>
            <a:ext cx="34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5"/>
          <p:cNvSpPr/>
          <p:nvPr/>
        </p:nvSpPr>
        <p:spPr>
          <a:xfrm>
            <a:off x="3166920" y="50007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979720" y="54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2979720" y="5557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58"/>
          <p:cNvGrpSpPr/>
          <p:nvPr/>
        </p:nvGrpSpPr>
        <p:grpSpPr>
          <a:xfrm>
            <a:off x="3053880" y="4995360"/>
            <a:ext cx="681840" cy="795600"/>
            <a:chOff x="3053880" y="4995360"/>
            <a:chExt cx="681840" cy="795600"/>
          </a:xfrm>
        </p:grpSpPr>
        <p:sp>
          <p:nvSpPr>
            <p:cNvPr id="274" name="Line 59"/>
            <p:cNvSpPr/>
            <p:nvPr/>
          </p:nvSpPr>
          <p:spPr>
            <a:xfrm flipV="1">
              <a:off x="3424320" y="4995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0"/>
            <p:cNvSpPr/>
            <p:nvPr/>
          </p:nvSpPr>
          <p:spPr>
            <a:xfrm>
              <a:off x="3429360" y="5562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1"/>
            <p:cNvSpPr/>
            <p:nvPr/>
          </p:nvSpPr>
          <p:spPr>
            <a:xfrm>
              <a:off x="3053880" y="5181480"/>
              <a:ext cx="68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Rectangle 62"/>
          <p:cNvSpPr/>
          <p:nvPr/>
        </p:nvSpPr>
        <p:spPr>
          <a:xfrm>
            <a:off x="5716080" y="55627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3"/>
          <p:cNvSpPr/>
          <p:nvPr/>
        </p:nvSpPr>
        <p:spPr>
          <a:xfrm>
            <a:off x="1066320" y="579132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Diode Curve"/>
          <p:cNvPicPr/>
          <p:nvPr/>
        </p:nvPicPr>
        <p:blipFill>
          <a:blip r:embed="rId1"/>
          <a:stretch/>
        </p:blipFill>
        <p:spPr>
          <a:xfrm>
            <a:off x="685800" y="1143000"/>
            <a:ext cx="4194000" cy="42116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5258520" y="1676520"/>
            <a:ext cx="3103560" cy="3065760"/>
            <a:chOff x="5258520" y="1676520"/>
            <a:chExt cx="3103560" cy="3065760"/>
          </a:xfrm>
        </p:grpSpPr>
        <p:sp>
          <p:nvSpPr>
            <p:cNvPr id="281" name="Line 4"/>
            <p:cNvSpPr/>
            <p:nvPr/>
          </p:nvSpPr>
          <p:spPr>
            <a:xfrm>
              <a:off x="7010280" y="1981080"/>
              <a:ext cx="0" cy="22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562360" y="335268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7773840" y="3276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7"/>
            <p:cNvSpPr/>
            <p:nvPr/>
          </p:nvSpPr>
          <p:spPr>
            <a:xfrm>
              <a:off x="6935760" y="1676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7010280" y="2133360"/>
              <a:ext cx="0" cy="121896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6019560" y="3352680"/>
              <a:ext cx="990720" cy="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7163280" y="251460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1"/>
            <p:cNvSpPr/>
            <p:nvPr/>
          </p:nvSpPr>
          <p:spPr>
            <a:xfrm>
              <a:off x="5258520" y="3504960"/>
              <a:ext cx="16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n-condu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2"/>
            <p:cNvSpPr/>
            <p:nvPr/>
          </p:nvSpPr>
          <p:spPr>
            <a:xfrm>
              <a:off x="6323400" y="434340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deal 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Text Box 13"/>
          <p:cNvSpPr/>
          <p:nvPr/>
        </p:nvSpPr>
        <p:spPr>
          <a:xfrm>
            <a:off x="682920" y="3049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characteristic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571640" y="4800600"/>
            <a:ext cx="4423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l Diode – no resistance to current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orward direction and infinite resist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reverse direction. (Equivalent to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Diode Curve"/>
          <p:cNvPicPr/>
          <p:nvPr/>
        </p:nvPicPr>
        <p:blipFill>
          <a:blip r:embed="rId1"/>
          <a:stretch/>
        </p:blipFill>
        <p:spPr>
          <a:xfrm>
            <a:off x="6564240" y="0"/>
            <a:ext cx="2579760" cy="25909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5"/>
          <p:cNvSpPr/>
          <p:nvPr/>
        </p:nvSpPr>
        <p:spPr>
          <a:xfrm>
            <a:off x="447840" y="1295280"/>
            <a:ext cx="83916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Voltage Dro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specifi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ward curr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ypically 0.3 V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ium and 0.7 V for Silic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Current – specified at a voltage less than the breakd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.  Leakage current is undesirable and will be present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eakdown voltage is reached.  Junction diodes are inte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rate below their breakdown voltag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ating – determined primarily by the size of the di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, material used, and configuration of the package.  Aver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is used (not RMS cur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83280" y="30492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57200" y="762120"/>
            <a:ext cx="86868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 Diod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reverse vol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 Max. reverse voltage that will not cause 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ated forward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amount of average current permitted to flow in forwar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forward voltage dr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Max. forward voltage drop across diode @ ind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leakage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ximum reverse reco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witching speed of a diode depends upon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 and fabric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ly, the smaller the chip the faster it switches (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gs being equ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reverse recovery time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is usually the limi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time it takes a diode to switch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o OFF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642280" y="54864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84360" y="304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od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75480" y="838080"/>
            <a:ext cx="363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rectifier circ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wave rectifi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838080" y="1523880"/>
            <a:ext cx="1952280" cy="1371600"/>
            <a:chOff x="838080" y="1523880"/>
            <a:chExt cx="1952280" cy="1371600"/>
          </a:xfrm>
        </p:grpSpPr>
        <p:sp>
          <p:nvSpPr>
            <p:cNvPr id="305" name="Oval 6"/>
            <p:cNvSpPr/>
            <p:nvPr/>
          </p:nvSpPr>
          <p:spPr>
            <a:xfrm>
              <a:off x="838080" y="209520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90720" y="163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990720" y="2400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990720" y="1638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990720" y="28573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2438280" y="16380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2361960" y="2019240"/>
              <a:ext cx="167040" cy="424800"/>
              <a:chOff x="2361960" y="2019240"/>
              <a:chExt cx="167040" cy="424800"/>
            </a:xfrm>
          </p:grpSpPr>
          <p:sp>
            <p:nvSpPr>
              <p:cNvPr id="312" name="Line 13"/>
              <p:cNvSpPr/>
              <p:nvPr/>
            </p:nvSpPr>
            <p:spPr>
              <a:xfrm>
                <a:off x="2362320" y="210456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14"/>
              <p:cNvSpPr/>
              <p:nvPr/>
            </p:nvSpPr>
            <p:spPr>
              <a:xfrm>
                <a:off x="2367000" y="220932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5"/>
              <p:cNvSpPr/>
              <p:nvPr/>
            </p:nvSpPr>
            <p:spPr>
              <a:xfrm>
                <a:off x="2371680" y="23140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6"/>
              <p:cNvSpPr/>
              <p:nvPr/>
            </p:nvSpPr>
            <p:spPr>
              <a:xfrm flipH="1">
                <a:off x="2361960" y="205704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17"/>
              <p:cNvSpPr/>
              <p:nvPr/>
            </p:nvSpPr>
            <p:spPr>
              <a:xfrm flipH="1">
                <a:off x="2361960" y="2157120"/>
                <a:ext cx="15228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18"/>
              <p:cNvSpPr/>
              <p:nvPr/>
            </p:nvSpPr>
            <p:spPr>
              <a:xfrm flipH="1">
                <a:off x="2361960" y="2261880"/>
                <a:ext cx="15228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9"/>
              <p:cNvSpPr/>
              <p:nvPr/>
            </p:nvSpPr>
            <p:spPr>
              <a:xfrm flipH="1">
                <a:off x="2376360" y="2361960"/>
                <a:ext cx="1526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20"/>
              <p:cNvSpPr/>
              <p:nvPr/>
            </p:nvSpPr>
            <p:spPr>
              <a:xfrm>
                <a:off x="2438280" y="2019240"/>
                <a:ext cx="8100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21"/>
              <p:cNvSpPr/>
              <p:nvPr/>
            </p:nvSpPr>
            <p:spPr>
              <a:xfrm>
                <a:off x="2381400" y="2414160"/>
                <a:ext cx="85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Line 22"/>
            <p:cNvSpPr/>
            <p:nvPr/>
          </p:nvSpPr>
          <p:spPr>
            <a:xfrm>
              <a:off x="2438280" y="243324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2666880" y="281916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2654280" y="15998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AutoShape 25"/>
            <p:cNvSpPr/>
            <p:nvPr/>
          </p:nvSpPr>
          <p:spPr>
            <a:xfrm rot="5400000">
              <a:off x="1676160" y="1562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1828800" y="152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7"/>
            <p:cNvSpPr/>
            <p:nvPr/>
          </p:nvSpPr>
          <p:spPr>
            <a:xfrm>
              <a:off x="2516760" y="21715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876240" y="220968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14400" y="4114800"/>
            <a:ext cx="2629080" cy="1676520"/>
            <a:chOff x="914400" y="4114800"/>
            <a:chExt cx="2629080" cy="1676520"/>
          </a:xfrm>
        </p:grpSpPr>
        <p:sp>
          <p:nvSpPr>
            <p:cNvPr id="329" name="Oval 30"/>
            <p:cNvSpPr/>
            <p:nvPr/>
          </p:nvSpPr>
          <p:spPr>
            <a:xfrm>
              <a:off x="914400" y="4648320"/>
              <a:ext cx="30492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106704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1067040" y="495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952560" y="4762800"/>
              <a:ext cx="228600" cy="7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34"/>
            <p:cNvSpPr/>
            <p:nvPr/>
          </p:nvSpPr>
          <p:spPr>
            <a:xfrm>
              <a:off x="1067040" y="41911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5"/>
            <p:cNvSpPr/>
            <p:nvPr/>
          </p:nvSpPr>
          <p:spPr>
            <a:xfrm>
              <a:off x="1067040" y="541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6"/>
            <p:cNvSpPr/>
            <p:nvPr/>
          </p:nvSpPr>
          <p:spPr>
            <a:xfrm>
              <a:off x="1676520" y="4191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37"/>
            <p:cNvSpPr/>
            <p:nvPr/>
          </p:nvSpPr>
          <p:spPr>
            <a:xfrm>
              <a:off x="167652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 flipV="1">
              <a:off x="2819520" y="41907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9"/>
            <p:cNvSpPr/>
            <p:nvPr/>
          </p:nvSpPr>
          <p:spPr>
            <a:xfrm flipV="1">
              <a:off x="182880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40"/>
            <p:cNvGrpSpPr/>
            <p:nvPr/>
          </p:nvGrpSpPr>
          <p:grpSpPr>
            <a:xfrm>
              <a:off x="2057400" y="4622760"/>
              <a:ext cx="220320" cy="85680"/>
              <a:chOff x="2057400" y="4622760"/>
              <a:chExt cx="220320" cy="85680"/>
            </a:xfrm>
          </p:grpSpPr>
          <p:sp>
            <p:nvSpPr>
              <p:cNvPr id="340" name="Line 41"/>
              <p:cNvSpPr/>
              <p:nvPr/>
            </p:nvSpPr>
            <p:spPr>
              <a:xfrm flipV="1">
                <a:off x="210168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156040" y="462780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43"/>
              <p:cNvSpPr/>
              <p:nvPr/>
            </p:nvSpPr>
            <p:spPr>
              <a:xfrm flipV="1">
                <a:off x="2210400" y="462528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44"/>
              <p:cNvSpPr/>
              <p:nvPr/>
            </p:nvSpPr>
            <p:spPr>
              <a:xfrm>
                <a:off x="20772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45"/>
              <p:cNvSpPr/>
              <p:nvPr/>
            </p:nvSpPr>
            <p:spPr>
              <a:xfrm>
                <a:off x="212904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46"/>
              <p:cNvSpPr/>
              <p:nvPr/>
            </p:nvSpPr>
            <p:spPr>
              <a:xfrm>
                <a:off x="2183400" y="4629960"/>
                <a:ext cx="21240" cy="7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47"/>
              <p:cNvSpPr/>
              <p:nvPr/>
            </p:nvSpPr>
            <p:spPr>
              <a:xfrm>
                <a:off x="2235240" y="4622760"/>
                <a:ext cx="2124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48"/>
              <p:cNvSpPr/>
              <p:nvPr/>
            </p:nvSpPr>
            <p:spPr>
              <a:xfrm flipV="1">
                <a:off x="2057400" y="4627440"/>
                <a:ext cx="1368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49"/>
              <p:cNvSpPr/>
              <p:nvPr/>
            </p:nvSpPr>
            <p:spPr>
              <a:xfrm flipV="1">
                <a:off x="2262240" y="4654440"/>
                <a:ext cx="1548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50"/>
            <p:cNvSpPr/>
            <p:nvPr/>
          </p:nvSpPr>
          <p:spPr>
            <a:xfrm>
              <a:off x="18288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2286000" y="4648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25146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53"/>
            <p:cNvSpPr/>
            <p:nvPr/>
          </p:nvSpPr>
          <p:spPr>
            <a:xfrm>
              <a:off x="1600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54"/>
            <p:cNvSpPr/>
            <p:nvPr/>
          </p:nvSpPr>
          <p:spPr>
            <a:xfrm rot="5400000">
              <a:off x="2123280" y="41252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55"/>
            <p:cNvSpPr/>
            <p:nvPr/>
          </p:nvSpPr>
          <p:spPr>
            <a:xfrm>
              <a:off x="1600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2273400" y="4124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57"/>
            <p:cNvSpPr/>
            <p:nvPr/>
          </p:nvSpPr>
          <p:spPr>
            <a:xfrm>
              <a:off x="2743200" y="457200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58"/>
            <p:cNvSpPr/>
            <p:nvPr/>
          </p:nvSpPr>
          <p:spPr>
            <a:xfrm rot="5400000">
              <a:off x="2123280" y="5039640"/>
              <a:ext cx="152640" cy="131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59"/>
            <p:cNvSpPr/>
            <p:nvPr/>
          </p:nvSpPr>
          <p:spPr>
            <a:xfrm>
              <a:off x="2743200" y="4572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60"/>
            <p:cNvSpPr/>
            <p:nvPr/>
          </p:nvSpPr>
          <p:spPr>
            <a:xfrm>
              <a:off x="2273400" y="5038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61"/>
            <p:cNvSpPr/>
            <p:nvPr/>
          </p:nvSpPr>
          <p:spPr>
            <a:xfrm>
              <a:off x="1676520" y="5105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62"/>
            <p:cNvSpPr/>
            <p:nvPr/>
          </p:nvSpPr>
          <p:spPr>
            <a:xfrm>
              <a:off x="1676520" y="5791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>
              <a:off x="350532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505320" y="5334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65"/>
            <p:cNvSpPr/>
            <p:nvPr/>
          </p:nvSpPr>
          <p:spPr>
            <a:xfrm>
              <a:off x="3463920" y="46450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66"/>
            <p:cNvSpPr/>
            <p:nvPr/>
          </p:nvSpPr>
          <p:spPr>
            <a:xfrm>
              <a:off x="3467160" y="524844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67"/>
            <p:cNvSpPr/>
            <p:nvPr/>
          </p:nvSpPr>
          <p:spPr>
            <a:xfrm>
              <a:off x="2059560" y="46483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PR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Picture 68" descr="Full-Wave rectifier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3886200" y="3962520"/>
            <a:ext cx="2209680" cy="2155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DC Pulse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3809880" y="1371600"/>
            <a:ext cx="1897200" cy="1905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0"/>
          <p:cNvSpPr/>
          <p:nvPr/>
        </p:nvSpPr>
        <p:spPr>
          <a:xfrm>
            <a:off x="6008040" y="1052640"/>
            <a:ext cx="304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Rectified signal is a combination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of an AC signal and a DC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omponent ( known as a DC pul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6096240" y="3581280"/>
            <a:ext cx="27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- The diodes act to route the 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current From both halves of the</a:t>
            </a:r>
            <a:br>
              <a:rPr sz="1600"/>
            </a:br>
            <a:r>
              <a:rPr b="0" lang="es-PR" sz="1600" spc="-1" strike="noStrike">
                <a:solidFill>
                  <a:srgbClr val="000000"/>
                </a:solidFill>
                <a:latin typeface="Times New Roman"/>
              </a:rPr>
              <a:t>AC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ri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layer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of semiconductor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range of devices, SCR (silicon controlled rectifier), SCS (silicon controlled switch), Diacs, Triacs, and Shockley 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high power switch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hundreds of amps / thousands of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operate in the breakdow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have a specified voltage drop when they are used in reverse 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n junction (i.e. diode) will break down in reverse bias if enough voltage is ap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diodes are operated in reverse bias for normal voltage reg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maintain a nearly constant voltage under conditions of widely vary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I-V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3" descr="zener curve"/>
          <p:cNvPicPr/>
          <p:nvPr/>
        </p:nvPicPr>
        <p:blipFill>
          <a:blip r:embed="rId1"/>
          <a:stretch/>
        </p:blipFill>
        <p:spPr>
          <a:xfrm>
            <a:off x="762120" y="1176480"/>
            <a:ext cx="7315200" cy="4157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"/>
          <p:cNvSpPr/>
          <p:nvPr/>
        </p:nvSpPr>
        <p:spPr>
          <a:xfrm>
            <a:off x="914400" y="524844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er characteristic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as the reverse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ncreased, the leakage current remains essentially constant until the breakdown voltag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ener voltage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reakdow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Zener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electric field near the junction becomes large enough to excite valence electrons directly into the conduction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lanche break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minority carriers are accelerated in the electric field near the junction to sufficient energies that they can excite valence electrons through coll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predominance of one breakdown over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epends on the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rve as a “Voltage Regulator” when placed in parallel across a load to be reg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voltreg"/>
          <p:cNvPicPr/>
          <p:nvPr/>
        </p:nvPicPr>
        <p:blipFill>
          <a:blip r:embed="rId1"/>
          <a:stretch/>
        </p:blipFill>
        <p:spPr>
          <a:xfrm>
            <a:off x="1523880" y="2914560"/>
            <a:ext cx="632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ner Diode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ner Voltag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mmon range, 3.3 V to 7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nce of Zener Voltage – commonly 5 to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current (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 correspondent to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handling capability – ¼, ½, 1, 5, 10, 50 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 - Temperature sensitive re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change in electrical resistance is very large and precise when subjected to a change in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istors exhibit larger parameter change with temperature than thermocouples and RT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istor -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couple - vers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D –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composed of semiconductor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ragile and are susceptible to permanent decali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676520" y="2514600"/>
            <a:ext cx="5333400" cy="3461400"/>
            <a:chOff x="1676520" y="2514600"/>
            <a:chExt cx="5333400" cy="3461400"/>
          </a:xfrm>
        </p:grpSpPr>
        <p:pic>
          <p:nvPicPr>
            <p:cNvPr id="387" name="Picture 4" descr="ther1"/>
            <p:cNvPicPr/>
            <p:nvPr/>
          </p:nvPicPr>
          <p:blipFill>
            <a:blip r:embed="rId1"/>
            <a:stretch/>
          </p:blipFill>
          <p:spPr>
            <a:xfrm>
              <a:off x="2895480" y="2514600"/>
              <a:ext cx="361440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5" descr="ther2"/>
            <p:cNvPicPr/>
            <p:nvPr/>
          </p:nvPicPr>
          <p:blipFill>
            <a:blip r:embed="rId2"/>
            <a:stretch/>
          </p:blipFill>
          <p:spPr>
            <a:xfrm>
              <a:off x="2971800" y="4952880"/>
              <a:ext cx="3644280" cy="5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6"/>
            <p:cNvSpPr/>
            <p:nvPr/>
          </p:nvSpPr>
          <p:spPr>
            <a:xfrm>
              <a:off x="2974680" y="373356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INS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7"/>
            <p:cNvSpPr/>
            <p:nvPr/>
          </p:nvSpPr>
          <p:spPr>
            <a:xfrm>
              <a:off x="3202200" y="4419360"/>
              <a:ext cx="153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FLON T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8"/>
            <p:cNvSpPr/>
            <p:nvPr/>
          </p:nvSpPr>
          <p:spPr>
            <a:xfrm>
              <a:off x="3889080" y="56386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” M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9"/>
            <p:cNvSpPr/>
            <p:nvPr/>
          </p:nvSpPr>
          <p:spPr>
            <a:xfrm>
              <a:off x="1676520" y="2514600"/>
              <a:ext cx="114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095”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1752480" y="49528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1 DIA. M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5486400" y="3657240"/>
              <a:ext cx="152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#32 TINNED COPPER WIRE 3” 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V="1">
              <a:off x="5943600" y="2895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6019560" y="449568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4952880" y="4038480"/>
              <a:ext cx="68544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581280" y="4800240"/>
              <a:ext cx="228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4800600" y="5790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3047760" y="5790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V="1">
              <a:off x="2514600" y="533340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V="1">
              <a:off x="2438280" y="2819160"/>
              <a:ext cx="4568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20"/>
          <p:cNvSpPr/>
          <p:nvPr/>
        </p:nvSpPr>
        <p:spPr>
          <a:xfrm>
            <a:off x="1066680" y="1600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many available probe assemb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thermistors have a negative temperature coefficient (NTC); that is, their resistance decreases with increasing temper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temperature coefficient (PTC) thermistors also exist with directly proportional R vs.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non-linear devices (high sensiti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mperature ranges are –1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-7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to +3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(~1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n reach up to 60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R-T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vidual thermistor curve can be very closely approximated by using the Steinhart-Har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1523880" y="2590920"/>
            <a:ext cx="3962520" cy="838080"/>
            <a:chOff x="1523880" y="2590920"/>
            <a:chExt cx="3962520" cy="838080"/>
          </a:xfrm>
        </p:grpSpPr>
        <p:graphicFrame>
          <p:nvGraphicFramePr>
            <p:cNvPr id="409" name="Object 5"/>
            <p:cNvGraphicFramePr/>
            <p:nvPr/>
          </p:nvGraphicFramePr>
          <p:xfrm>
            <a:off x="2209680" y="2667240"/>
            <a:ext cx="3276720" cy="57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667240"/>
                      <a:ext cx="32767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6"/>
            <p:cNvGraphicFramePr/>
            <p:nvPr/>
          </p:nvGraphicFramePr>
          <p:xfrm>
            <a:off x="1523880" y="2590920"/>
            <a:ext cx="23508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2590920"/>
                      <a:ext cx="2350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Text Box 7"/>
            <p:cNvSpPr/>
            <p:nvPr/>
          </p:nvSpPr>
          <p:spPr>
            <a:xfrm>
              <a:off x="182988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8"/>
          <p:cNvSpPr/>
          <p:nvPr/>
        </p:nvSpPr>
        <p:spPr>
          <a:xfrm>
            <a:off x="5943600" y="22096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Degrees Kel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esistance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erm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B,C = Curve-fit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62120" y="3505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4120" y="4495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5334120" y="5105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56386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13"/>
          <p:cNvGrpSpPr/>
          <p:nvPr/>
        </p:nvGrpSpPr>
        <p:grpSpPr>
          <a:xfrm>
            <a:off x="2057400" y="4114440"/>
            <a:ext cx="2743200" cy="1829160"/>
            <a:chOff x="2057400" y="4114440"/>
            <a:chExt cx="2743200" cy="1829160"/>
          </a:xfrm>
        </p:grpSpPr>
        <p:grpSp>
          <p:nvGrpSpPr>
            <p:cNvPr id="420" name="Group 14"/>
            <p:cNvGrpSpPr/>
            <p:nvPr/>
          </p:nvGrpSpPr>
          <p:grpSpPr>
            <a:xfrm>
              <a:off x="2057400" y="4114800"/>
              <a:ext cx="2743200" cy="1828800"/>
              <a:chOff x="2057400" y="4114800"/>
              <a:chExt cx="2743200" cy="1828800"/>
            </a:xfrm>
          </p:grpSpPr>
          <p:sp>
            <p:nvSpPr>
              <p:cNvPr id="421" name="Line 15"/>
              <p:cNvSpPr/>
              <p:nvPr/>
            </p:nvSpPr>
            <p:spPr>
              <a:xfrm>
                <a:off x="2057400" y="411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6"/>
              <p:cNvSpPr/>
              <p:nvPr/>
            </p:nvSpPr>
            <p:spPr>
              <a:xfrm>
                <a:off x="2057400" y="5943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209680" y="4114440"/>
              <a:ext cx="609840" cy="1752840"/>
              <a:chOff x="2209680" y="4114440"/>
              <a:chExt cx="609840" cy="1752840"/>
            </a:xfrm>
          </p:grpSpPr>
          <p:sp>
            <p:nvSpPr>
              <p:cNvPr id="424" name="Freeform 18"/>
              <p:cNvSpPr/>
              <p:nvPr/>
            </p:nvSpPr>
            <p:spPr>
              <a:xfrm>
                <a:off x="2209680" y="4343400"/>
                <a:ext cx="609840" cy="1523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19"/>
              <p:cNvSpPr/>
              <p:nvPr/>
            </p:nvSpPr>
            <p:spPr>
              <a:xfrm flipV="1">
                <a:off x="2209680" y="411444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Freeform 20"/>
            <p:cNvSpPr/>
            <p:nvPr/>
          </p:nvSpPr>
          <p:spPr>
            <a:xfrm>
              <a:off x="2057400" y="4572000"/>
              <a:ext cx="1600200" cy="13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057400" y="5257800"/>
              <a:ext cx="2666880" cy="685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Text Box 22"/>
          <p:cNvSpPr/>
          <p:nvPr/>
        </p:nvSpPr>
        <p:spPr>
          <a:xfrm>
            <a:off x="6019920" y="4267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istor (sen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6019920" y="4861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D (s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6019920" y="547056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ocouple (versat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44197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 rot="16200000">
            <a:off x="1361880" y="43534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or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3" descr="fig2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676520" y="2514600"/>
            <a:ext cx="5867280" cy="43178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762120" y="1219320"/>
            <a:ext cx="73152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atstone bridge” with selector switch to measure temperature at sever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iac is a three terminal AC semiconductor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on with a low energy signal to the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1 and MT2 are the current carrying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is the gate terminal, used for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triac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705720" y="2438280"/>
            <a:ext cx="1990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isto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7800" y="1447920"/>
            <a:ext cx="35812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or is set to a desired temperature (bridge unbalance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alance is fed into an amplifier, which actuates a relay to provide a source of heat or c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hermistor senses the desired temperature, the bridge is balanced, opening the relay and turning off the heat or co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533520" y="14479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5"/>
          <p:cNvGrpSpPr/>
          <p:nvPr/>
        </p:nvGrpSpPr>
        <p:grpSpPr>
          <a:xfrm>
            <a:off x="304920" y="2057400"/>
            <a:ext cx="4952880" cy="3751920"/>
            <a:chOff x="304920" y="2057400"/>
            <a:chExt cx="4952880" cy="3751920"/>
          </a:xfrm>
        </p:grpSpPr>
        <p:grpSp>
          <p:nvGrpSpPr>
            <p:cNvPr id="440" name="Group 6"/>
            <p:cNvGrpSpPr/>
            <p:nvPr/>
          </p:nvGrpSpPr>
          <p:grpSpPr>
            <a:xfrm>
              <a:off x="304920" y="2712960"/>
              <a:ext cx="4952880" cy="3096360"/>
              <a:chOff x="304920" y="2712960"/>
              <a:chExt cx="4952880" cy="3096360"/>
            </a:xfrm>
          </p:grpSpPr>
          <p:pic>
            <p:nvPicPr>
              <p:cNvPr id="441" name="Picture 7" descr="fig62"/>
              <p:cNvPicPr/>
              <p:nvPr/>
            </p:nvPicPr>
            <p:blipFill>
              <a:blip r:embed="rId1"/>
              <a:stretch/>
            </p:blipFill>
            <p:spPr>
              <a:xfrm>
                <a:off x="304920" y="2712960"/>
                <a:ext cx="4952880" cy="2957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Group 8"/>
              <p:cNvGrpSpPr/>
              <p:nvPr/>
            </p:nvGrpSpPr>
            <p:grpSpPr>
              <a:xfrm>
                <a:off x="685800" y="4267080"/>
                <a:ext cx="4343400" cy="1542240"/>
                <a:chOff x="685800" y="4267080"/>
                <a:chExt cx="4343400" cy="1542240"/>
              </a:xfrm>
            </p:grpSpPr>
            <p:sp>
              <p:nvSpPr>
                <p:cNvPr id="443" name="Text Box 9"/>
                <p:cNvSpPr/>
                <p:nvPr/>
              </p:nvSpPr>
              <p:spPr>
                <a:xfrm>
                  <a:off x="3352680" y="5105520"/>
                  <a:ext cx="12956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igh gain amplifi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10"/>
                <p:cNvSpPr/>
                <p:nvPr/>
              </p:nvSpPr>
              <p:spPr>
                <a:xfrm>
                  <a:off x="4267080" y="4267080"/>
                  <a:ext cx="76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ela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11"/>
                <p:cNvSpPr/>
                <p:nvPr/>
              </p:nvSpPr>
              <p:spPr>
                <a:xfrm flipH="1" flipV="1">
                  <a:off x="3733560" y="4419360"/>
                  <a:ext cx="2286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Text Box 12"/>
                <p:cNvSpPr/>
                <p:nvPr/>
              </p:nvSpPr>
              <p:spPr>
                <a:xfrm>
                  <a:off x="685800" y="5089680"/>
                  <a:ext cx="2209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hermist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Text Box 13"/>
            <p:cNvSpPr/>
            <p:nvPr/>
          </p:nvSpPr>
          <p:spPr>
            <a:xfrm>
              <a:off x="2895480" y="2057400"/>
              <a:ext cx="1828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riable resistor for setting desired temper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 flipH="1">
              <a:off x="3276360" y="33526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traditional transi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ollector, emitter, and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transistor base is a light-sensitive collector-base 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collector to emitter leakage current when transistor is switched off, called collector dark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Packag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4" descr="phototransistor types"/>
          <p:cNvPicPr/>
          <p:nvPr/>
        </p:nvPicPr>
        <p:blipFill>
          <a:blip r:embed="rId1"/>
          <a:stretch/>
        </p:blipFill>
        <p:spPr>
          <a:xfrm>
            <a:off x="762120" y="16002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phototransistor"/>
          <p:cNvPicPr/>
          <p:nvPr/>
        </p:nvPicPr>
        <p:blipFill>
          <a:blip r:embed="rId1"/>
          <a:stretch/>
        </p:blipFill>
        <p:spPr>
          <a:xfrm>
            <a:off x="1219320" y="2057400"/>
            <a:ext cx="66294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ght sensitive collector base p-n junction controls current flow between the emitter and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ight intensity increases, resistance decreases, creating more emitter-bas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 base current controls the larger emitter-collector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or current depends on the light intensity and the DC current gain of the phototransis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hototransistor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5409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ototransistor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4" descr="phototransistor schematic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wall"/>
          <p:cNvPicPr/>
          <p:nvPr/>
        </p:nvPicPr>
        <p:blipFill>
          <a:blip r:embed="rId1"/>
          <a:stretch/>
        </p:blipFill>
        <p:spPr>
          <a:xfrm>
            <a:off x="838080" y="2514600"/>
            <a:ext cx="4114800" cy="3114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schem1"/>
          <p:cNvPicPr/>
          <p:nvPr/>
        </p:nvPicPr>
        <p:blipFill>
          <a:blip r:embed="rId2"/>
          <a:stretch/>
        </p:blipFill>
        <p:spPr>
          <a:xfrm>
            <a:off x="4800600" y="2438280"/>
            <a:ext cx="3733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 Avoida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baffle length to obtain a specific detectio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frared components that won’t be affected by visible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~ 220 ohm resistors for LE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sensors in a row to detect narrow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transis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perly bi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sensitive to temperatur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ust be protected against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metic packages are more tolerant of severe environments than plastic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 packages are less expensive than hermetic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 similar to r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high voltag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lent noise isolation because switching circuits are electrically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ing of two systems with transmission of photons eliminates the need for a common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triac pnpn"/>
          <p:cNvPicPr/>
          <p:nvPr/>
        </p:nvPicPr>
        <p:blipFill>
          <a:blip r:embed="rId1"/>
          <a:srcRect l="18753" t="12500" r="35001" b="34997"/>
          <a:stretch/>
        </p:blipFill>
        <p:spPr>
          <a:xfrm>
            <a:off x="4876920" y="2057400"/>
            <a:ext cx="3733560" cy="339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219320" y="25146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layer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between MT1 and MT2 are parallel switches (PNPN and NP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positive or negative gate trig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dielectric sandwich separates input from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optoisolator construction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age = infrared emitting diode (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age = silicon NPN photo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" descr="optoisolator schematic"/>
          <p:cNvPicPr/>
          <p:nvPr/>
        </p:nvPicPr>
        <p:blipFill>
          <a:blip r:embed="rId1"/>
          <a:stretch/>
        </p:blipFill>
        <p:spPr>
          <a:xfrm>
            <a:off x="4038480" y="1600200"/>
            <a:ext cx="4496040" cy="2819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optoisolator chip"/>
          <p:cNvPicPr/>
          <p:nvPr/>
        </p:nvPicPr>
        <p:blipFill>
          <a:blip r:embed="rId2"/>
          <a:stretch/>
        </p:blipFill>
        <p:spPr>
          <a:xfrm>
            <a:off x="914400" y="1905120"/>
            <a:ext cx="29829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lab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alculate speed or 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emitter and detector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4" descr="opto interupter figure2"/>
          <p:cNvPicPr/>
          <p:nvPr/>
        </p:nvPicPr>
        <p:blipFill>
          <a:blip r:embed="rId1"/>
          <a:stretch/>
        </p:blipFill>
        <p:spPr>
          <a:xfrm>
            <a:off x="4876920" y="2438280"/>
            <a:ext cx="32511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coupler Interrupte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5257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mechanical positioning problems encountered in adjusting the emitter and detector for proper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opto interupter figure1"/>
          <p:cNvPicPr/>
          <p:nvPr/>
        </p:nvPicPr>
        <p:blipFill>
          <a:blip r:embed="rId1"/>
          <a:stretch/>
        </p:blipFill>
        <p:spPr>
          <a:xfrm>
            <a:off x="914400" y="1981080"/>
            <a:ext cx="2895480" cy="27115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opto interupter schematic"/>
          <p:cNvPicPr/>
          <p:nvPr/>
        </p:nvPicPr>
        <p:blipFill>
          <a:blip r:embed="rId2"/>
          <a:stretch/>
        </p:blipFill>
        <p:spPr>
          <a:xfrm>
            <a:off x="4114800" y="2133720"/>
            <a:ext cx="4114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oisolator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 for applications requ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solation surge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not travel in opposit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control motors, solenoid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riac operating curve"/>
          <p:cNvPicPr/>
          <p:nvPr/>
        </p:nvPicPr>
        <p:blipFill>
          <a:blip r:embed="rId1">
            <a:lum contrast="30000"/>
          </a:blip>
          <a:srcRect l="0" t="0" r="0" b="10130"/>
          <a:stretch/>
        </p:blipFill>
        <p:spPr>
          <a:xfrm>
            <a:off x="1981080" y="1600200"/>
            <a:ext cx="525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Characteristic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drant - MT2 is (+) with respect to M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break-over voltage of the Tri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highest voltage that can be bl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leakage current of the Triac when 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pplied to MT1 and M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veral orders of magnitude smaller than the “on” 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World Tria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in various shapes an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ly all the same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unt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riacs"/>
          <p:cNvPicPr/>
          <p:nvPr/>
        </p:nvPicPr>
        <p:blipFill>
          <a:blip r:embed="rId1"/>
          <a:stretch/>
        </p:blipFill>
        <p:spPr>
          <a:xfrm>
            <a:off x="4724280" y="220968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c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triac switch"/>
          <p:cNvPicPr/>
          <p:nvPr/>
        </p:nvPicPr>
        <p:blipFill>
          <a:blip r:embed="rId1"/>
          <a:stretch/>
        </p:blipFill>
        <p:spPr>
          <a:xfrm>
            <a:off x="3581280" y="1752480"/>
            <a:ext cx="5410440" cy="487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09480" y="2057400"/>
            <a:ext cx="3276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ple Triac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control current/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Mechanical wear in 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886560" y="33336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6520" y="838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7440" y="1641600"/>
            <a:ext cx="43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review of semicondu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of Junction Di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ner Diod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19840" y="6361200"/>
            <a:ext cx="80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 6405 – Introduction to Mechatron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31-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7086600" y="761760"/>
            <a:ext cx="1345680" cy="609840"/>
            <a:chOff x="7086600" y="761760"/>
            <a:chExt cx="1345680" cy="609840"/>
          </a:xfrm>
        </p:grpSpPr>
        <p:sp>
          <p:nvSpPr>
            <p:cNvPr id="72" name="AutoShape 7"/>
            <p:cNvSpPr/>
            <p:nvPr/>
          </p:nvSpPr>
          <p:spPr>
            <a:xfrm rot="16200000">
              <a:off x="7467120" y="761760"/>
              <a:ext cx="609480" cy="609120"/>
            </a:xfrm>
            <a:prstGeom prst="flowChartMerg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8076960" y="762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80514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 flipH="1">
              <a:off x="7086600" y="1066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00:20:07Z</dcterms:created>
  <dc:creator>Mechanical Engineering Project</dc:creator>
  <dc:description/>
  <dc:language>en-US</dc:language>
  <cp:lastModifiedBy>Brigade</cp:lastModifiedBy>
  <dcterms:modified xsi:type="dcterms:W3CDTF">2011-08-09T04:51:37Z</dcterms:modified>
  <cp:revision>0</cp:revision>
  <dc:subject/>
  <dc:title>Mechanical Engineering Project</dc:title>
</cp:coreProperties>
</file>